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5EF-292D-4CBE-AA10-D1F6C555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CBA-5FB8-49C2-BB04-44147AB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6E0-612A-44D6-BD96-B71A9B1D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417-8B1F-4992-A5B8-899D85EF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A61-50CE-4B1D-B1B7-1418DF5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EC1-78B7-42B7-A485-9D5A082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7BB-38C7-4A63-8DD1-F239820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4FE-E0AB-417F-A773-39641E87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FE2-C687-4338-9F7A-31C5187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FE5-6E2E-41C8-B0A1-5DE973E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B99-8A8D-40AA-8D67-54536DD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DD1-EEC0-482D-A9EC-F2A2796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AFF-A281-4D35-92E8-A777318D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RS page Onex.jpg"/>
          <p:cNvPicPr/>
          <p:nvPr/>
        </p:nvPicPr>
        <p:blipFill>
          <a:blip r:embed="rId1"/>
          <a:stretch/>
        </p:blipFill>
        <p:spPr>
          <a:xfrm>
            <a:off x="0" y="99072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IRS page Two.jpg"/>
          <p:cNvPicPr/>
          <p:nvPr/>
        </p:nvPicPr>
        <p:blipFill>
          <a:blip r:embed="rId1"/>
          <a:stretch/>
        </p:blipFill>
        <p:spPr>
          <a:xfrm>
            <a:off x="0" y="-14436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IRS page Three.jpg"/>
          <p:cNvPicPr/>
          <p:nvPr/>
        </p:nvPicPr>
        <p:blipFill>
          <a:blip r:embed="rId1"/>
          <a:stretch/>
        </p:blipFill>
        <p:spPr>
          <a:xfrm>
            <a:off x="0" y="-14436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05:57Z</dcterms:created>
  <dc:creator>Robert</dc:creator>
  <dc:description/>
  <dc:language>en-US</dc:language>
  <cp:lastModifiedBy>RobertSteele</cp:lastModifiedBy>
  <dcterms:modified xsi:type="dcterms:W3CDTF">2012-10-10T03:50:01Z</dcterms:modified>
  <cp:revision>4</cp:revision>
  <dc:subject/>
  <dc:title>Slide 1</dc:title>
</cp:coreProperties>
</file>